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91F1-F1E5-4019-95E3-0646D577A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766D-FA0F-4115-AC45-9800F600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40C3-3B8D-48AC-8B49-4C038413D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CEF0-355A-4511-81F6-C3FCF0D23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C31E-A7CD-4A0E-8E74-3FAD0967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0284-11EF-4411-9773-1DA8D556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ECD9-B94A-4B77-AFEC-F9AFADF8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9929-3E22-4FE3-89DA-CF8C7D81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1419-77A2-4A92-B6E6-D5246551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B6BE-5D68-4711-907B-7E6989FD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4781-371C-4A4E-95EC-9782DCA9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3207-8AB6-4D30-8E3D-A5BF2CF9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9F90-4E14-434F-A065-5A8D87259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4624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9928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43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2666880"/>
            <a:ext cx="2895480" cy="1886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352680" y="303120"/>
            <a:ext cx="2590920" cy="1525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629400" y="5218200"/>
            <a:ext cx="2438280" cy="1563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781680" y="2743200"/>
            <a:ext cx="2286000" cy="1522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3352680" y="5105520"/>
            <a:ext cx="2667240" cy="1711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6477120" y="228600"/>
            <a:ext cx="2666880" cy="1736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3505320" y="2590920"/>
            <a:ext cx="2286000" cy="1817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76320" y="38160"/>
            <a:ext cx="2514600" cy="1942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0" y="5105520"/>
            <a:ext cx="264168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94624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9928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343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666880"/>
            <a:ext cx="2590920" cy="1662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219320" y="5029200"/>
            <a:ext cx="1371600" cy="893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0" y="192240"/>
            <a:ext cx="2819520" cy="1834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124080" y="152280"/>
            <a:ext cx="2895840" cy="1886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6705720" y="2709720"/>
            <a:ext cx="2438280" cy="1587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6553080" y="4964040"/>
            <a:ext cx="2556000" cy="1665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3200400" y="2590920"/>
            <a:ext cx="2971800" cy="1830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685800" y="5867280"/>
            <a:ext cx="1219320" cy="862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76320" y="4865760"/>
            <a:ext cx="1295280" cy="1001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>
            <a:off x="3352680" y="4952880"/>
            <a:ext cx="2438640" cy="1739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>
            <a:off x="7315200" y="914400"/>
            <a:ext cx="1676520" cy="1197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2"/>
          <a:stretch/>
        </p:blipFill>
        <p:spPr>
          <a:xfrm>
            <a:off x="6858000" y="223920"/>
            <a:ext cx="1143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94624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9928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343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1914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581280" y="0"/>
            <a:ext cx="2057400" cy="2017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 rot="1587600">
            <a:off x="2971800" y="3052440"/>
            <a:ext cx="3200400" cy="782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0" y="2590920"/>
            <a:ext cx="2590920" cy="17240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7324560" y="2438280"/>
            <a:ext cx="1590840" cy="2057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6692760" y="123840"/>
            <a:ext cx="2451240" cy="1628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0" y="5119560"/>
            <a:ext cx="281952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Dina Winterton</cp:lastModifiedBy>
  <dcterms:modified xsi:type="dcterms:W3CDTF">2008-12-03T19:42:09Z</dcterms:modified>
  <cp:revision>18</cp:revision>
  <dc:subject/>
  <dc:title>Slide 1</dc:title>
</cp:coreProperties>
</file>